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A848-6D06-4501-ADD7-6B9E840C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B4FC-D4D8-452E-A86D-FEEFE8A8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6A5D-AC6E-4C66-9C88-EBDD213E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0C52-F7E9-4959-9F49-3134EB79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C46A-0389-4B10-BF1F-7297C307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E76A-826A-43A9-B3FD-87735F11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804C-CF09-4A53-8AB2-71A20FE7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402D-F66E-4ADE-93BE-D071CE50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E040-82E5-4FDF-9F27-EF235C00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7BB4-13CA-48DA-88A0-77A4C63C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15FE-E741-444C-9B7E-D24E35DC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D557-2A37-4D17-A8A7-55FA47ED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FA0F-6192-4F91-92ED-77FEC4A3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CF12-203D-4E95-A811-FF0986E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8675-CC2E-4DDA-A40F-EABB556A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893B-C7CA-4204-B8DD-B12ABE35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0CB9-85FB-404A-A1C3-F9160256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4433-75CA-4C6A-BACD-24127BA2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47A9-13D3-496E-B6AA-D0C19297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EAD2-9077-46F5-89EB-42A5D91B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19D8-EE98-4EC4-85A3-757AC618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4DD6-622D-4148-B4BC-F2415B1D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BF0F-83F8-432A-8B0C-24E29BD3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D4F8-4FAF-43C6-A183-EC7740D6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9F80-5554-4CF7-B94E-B7036F27E5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77560" y="6269760"/>
            <a:ext cx="2084040" cy="42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76E6-B79F-4546-A579-517F59DC04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Me llamo ______________        Clase 801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La fecha es el 12 de mayo del 2016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0663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Propósito # 79: 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Cómo terminamos la practica para el EXAMEN: UNIDAD 8 del LU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7030a0"/>
                </a:solidFill>
                <a:latin typeface="Calibri"/>
              </a:rPr>
              <a:t>L.O: to review for the unit ex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Activida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I- </a:t>
            </a:r>
            <a:r>
              <a:rPr b="0" lang="es-ES_tradnl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opia y respon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Qué hay en un pastel de cumpleaño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Qué recibimos para nuestro cumpleaño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Qué comes con ques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i quieres ir a un concierto, ¿Qué necesit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Quiénes canta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Quiénes tocan instrumentos musical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7620120" cy="480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rcRect l="12500" t="6273" r="18066" b="19727"/>
          <a:stretch/>
        </p:blipFill>
        <p:spPr>
          <a:xfrm>
            <a:off x="0" y="96840"/>
            <a:ext cx="8464680" cy="5638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76320" y="1066680"/>
            <a:ext cx="7924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II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cribe en el PRETER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7620120" cy="4800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rcRect l="12500" t="5003" r="17729" b="24276"/>
          <a:stretch/>
        </p:blipFill>
        <p:spPr>
          <a:xfrm>
            <a:off x="0" y="0"/>
            <a:ext cx="8507520" cy="53895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76320" y="1066680"/>
            <a:ext cx="7924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III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pia y comple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7620120" cy="480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rcRect l="12500" t="5003" r="18751" b="18092"/>
          <a:stretch/>
        </p:blipFill>
        <p:spPr>
          <a:xfrm>
            <a:off x="0" y="158760"/>
            <a:ext cx="8381880" cy="5861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0" y="838080"/>
            <a:ext cx="8534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IV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pia y completa con la forma correcta del verbo en el preteri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76320" y="1190520"/>
          <a:ext cx="9067680" cy="5394600"/>
        </p:xfrm>
        <a:graphic>
          <a:graphicData uri="http://schemas.openxmlformats.org/drawingml/2006/table">
            <a:tbl>
              <a:tblPr/>
              <a:tblGrid>
                <a:gridCol w="1447560"/>
                <a:gridCol w="1371600"/>
                <a:gridCol w="1371600"/>
                <a:gridCol w="1600200"/>
                <a:gridCol w="1638360"/>
                <a:gridCol w="16383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st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í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bi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128"/>
          <p:cNvSpPr/>
          <p:nvPr/>
        </p:nvSpPr>
        <p:spPr>
          <a:xfrm>
            <a:off x="304920" y="5335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VI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onjugate in the PRETER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8"/>
          <p:cNvSpPr/>
          <p:nvPr/>
        </p:nvSpPr>
        <p:spPr>
          <a:xfrm>
            <a:off x="45720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area # 79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21:56:24Z</dcterms:created>
  <dc:creator>Helen Zumaeta</dc:creator>
  <dc:description/>
  <dc:language>en-US</dc:language>
  <cp:lastModifiedBy>Helen Zumaeta</cp:lastModifiedBy>
  <cp:lastPrinted>2016-05-12T15:06:09Z</cp:lastPrinted>
  <dcterms:modified xsi:type="dcterms:W3CDTF">2016-05-12T15:12:47Z</dcterms:modified>
  <cp:revision>10</cp:revision>
  <dc:subject/>
  <dc:title>Me llamo _________        Clase 8IM La fecha es el 24 de enero del 2013</dc:title>
</cp:coreProperties>
</file>